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5FB9-F2D4-425A-91C0-81489B64D19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~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58A4-C581-4A13-B402-75402FD92966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发表国际第一篇基于点云的人脸性别分类论文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完成国际第一篇基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的人体姿态估计论文，国际第一篇基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N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的视觉目标跟踪论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6F17-F6C2-4ABB-88B5-190775C1A317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发表国际第一篇基于点云的人脸性别分类论文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完成国际第一篇基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的人体姿态估计论文，国际第一篇基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N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的视觉目标跟踪论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8696-5E89-435F-940B-BD6EA9E038E1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A571-9F3B-4BDF-922F-FF0CC812C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5848-EB0F-41AE-860A-557FDB29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9CC9-C115-4CCC-97C9-EAD6FF05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35A9-4B5F-48E2-A7C7-26FADB45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4C90-AEB2-42C3-9498-FFECB2AB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74B0-8479-4319-A179-D09ADE75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8325-AB61-484C-8EAD-776C2A5D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16B0-DD9C-49BB-A39B-DFFADCA0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6E89-14EB-4D83-BC34-72391534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1DD9-07D7-4679-BC28-78DC6404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1F7D-5D3E-4FF9-B2A9-0A76C8060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4DDC-8E02-4375-B2F8-419C4A267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685800" cy="6854760"/>
            <a:chOff x="0" y="0"/>
            <a:chExt cx="68580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8580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47880" y="162000"/>
              <a:ext cx="96120" cy="6553080"/>
              <a:chOff x="47880" y="162000"/>
              <a:chExt cx="9612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47880" y="1754280"/>
                <a:ext cx="9612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47880" y="1984320"/>
                <a:ext cx="9612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47880" y="2211480"/>
                <a:ext cx="9612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47880" y="2441520"/>
                <a:ext cx="9612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47880" y="2671920"/>
                <a:ext cx="9612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47880" y="2898720"/>
                <a:ext cx="9612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47880" y="3129120"/>
                <a:ext cx="9612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47880" y="3357720"/>
                <a:ext cx="9612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47880" y="3586320"/>
                <a:ext cx="9612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47880" y="3814920"/>
                <a:ext cx="9612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47880" y="4044960"/>
                <a:ext cx="9612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47880" y="4273560"/>
                <a:ext cx="9612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47880" y="4502160"/>
                <a:ext cx="9612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47880" y="4730760"/>
                <a:ext cx="9612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47880" y="4959360"/>
                <a:ext cx="9612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47880" y="5189400"/>
                <a:ext cx="9612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47880" y="5416560"/>
                <a:ext cx="9612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47880" y="5646600"/>
                <a:ext cx="9612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47880" y="5877000"/>
                <a:ext cx="9612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47880" y="6103800"/>
                <a:ext cx="9612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47880" y="6334200"/>
                <a:ext cx="9612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47880" y="6561000"/>
                <a:ext cx="9612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47880" y="162000"/>
                <a:ext cx="9612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47880" y="390600"/>
                <a:ext cx="9612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47880" y="620640"/>
                <a:ext cx="9612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47880" y="849240"/>
                <a:ext cx="9612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47880" y="1077840"/>
                <a:ext cx="9612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47880" y="1306440"/>
                <a:ext cx="9612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47880" y="1536840"/>
                <a:ext cx="9612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2" name="Group 34"/>
          <p:cNvGrpSpPr/>
          <p:nvPr/>
        </p:nvGrpSpPr>
        <p:grpSpPr>
          <a:xfrm>
            <a:off x="0" y="0"/>
            <a:ext cx="685800" cy="6854760"/>
            <a:chOff x="0" y="0"/>
            <a:chExt cx="685800" cy="6854760"/>
          </a:xfrm>
        </p:grpSpPr>
        <p:sp>
          <p:nvSpPr>
            <p:cNvPr id="33" name="Rectangle 35"/>
            <p:cNvSpPr/>
            <p:nvPr/>
          </p:nvSpPr>
          <p:spPr>
            <a:xfrm>
              <a:off x="0" y="0"/>
              <a:ext cx="68580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" name="Group 36"/>
            <p:cNvGrpSpPr/>
            <p:nvPr/>
          </p:nvGrpSpPr>
          <p:grpSpPr>
            <a:xfrm>
              <a:off x="47880" y="162000"/>
              <a:ext cx="96120" cy="6553080"/>
              <a:chOff x="47880" y="162000"/>
              <a:chExt cx="96120" cy="6553080"/>
            </a:xfrm>
          </p:grpSpPr>
          <p:sp>
            <p:nvSpPr>
              <p:cNvPr id="35" name="Rectangle 37"/>
              <p:cNvSpPr/>
              <p:nvPr/>
            </p:nvSpPr>
            <p:spPr>
              <a:xfrm>
                <a:off x="47880" y="1754280"/>
                <a:ext cx="9612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>
                <a:off x="47880" y="1984320"/>
                <a:ext cx="9612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>
                <a:off x="47880" y="2211480"/>
                <a:ext cx="9612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>
                <a:off x="47880" y="2441520"/>
                <a:ext cx="9612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>
                <a:off x="47880" y="2671920"/>
                <a:ext cx="9612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>
                <a:off x="47880" y="2898720"/>
                <a:ext cx="9612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>
                <a:off x="47880" y="3129120"/>
                <a:ext cx="9612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>
                <a:off x="47880" y="3357720"/>
                <a:ext cx="9612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>
                <a:off x="47880" y="3586320"/>
                <a:ext cx="9612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>
                <a:off x="47880" y="3814920"/>
                <a:ext cx="9612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>
                <a:off x="47880" y="4044960"/>
                <a:ext cx="9612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>
                <a:off x="47880" y="4273560"/>
                <a:ext cx="9612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>
                <a:off x="47880" y="4502160"/>
                <a:ext cx="9612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>
                <a:off x="47880" y="4730760"/>
                <a:ext cx="9612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>
                <a:off x="47880" y="4959360"/>
                <a:ext cx="9612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>
                <a:off x="47880" y="5189400"/>
                <a:ext cx="9612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>
                <a:off x="47880" y="5416560"/>
                <a:ext cx="9612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>
                <a:off x="47880" y="5646600"/>
                <a:ext cx="9612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>
                <a:off x="47880" y="5877000"/>
                <a:ext cx="9612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>
                <a:off x="47880" y="6103800"/>
                <a:ext cx="9612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>
                <a:off x="47880" y="6334200"/>
                <a:ext cx="9612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>
                <a:off x="47880" y="6561000"/>
                <a:ext cx="9612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>
                <a:off x="47880" y="162000"/>
                <a:ext cx="9612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>
                <a:off x="47880" y="390600"/>
                <a:ext cx="9612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>
                <a:off x="47880" y="620640"/>
                <a:ext cx="9612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>
                <a:off x="47880" y="849240"/>
                <a:ext cx="9612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>
                <a:off x="47880" y="1077840"/>
                <a:ext cx="9612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>
                <a:off x="47880" y="1306440"/>
                <a:ext cx="9612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>
                <a:off x="47880" y="1536840"/>
                <a:ext cx="9612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4" name="Text Box 67"/>
          <p:cNvSpPr/>
          <p:nvPr/>
        </p:nvSpPr>
        <p:spPr>
          <a:xfrm>
            <a:off x="0" y="114300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68"/>
          <p:cNvSpPr/>
          <p:nvPr/>
        </p:nvSpPr>
        <p:spPr>
          <a:xfrm>
            <a:off x="152280" y="1066680"/>
            <a:ext cx="381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ccff"/>
                </a:solidFill>
                <a:latin typeface="Times New Roman"/>
                <a:ea typeface="仿宋_GB2312"/>
              </a:rPr>
              <a:t>东南大学专业技术职务晋升成果介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03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4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105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PlaceHolder 1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9F70-9D73-430A-94A6-C4EDC7FFF5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02920" y="4723920"/>
            <a:ext cx="656604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自动化学院</a:t>
            </a:r>
            <a:br>
              <a:rPr sz="3200"/>
            </a:b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708000" y="3428640"/>
            <a:ext cx="208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00"/>
                </a:solidFill>
                <a:latin typeface="Times New Roman"/>
                <a:ea typeface="黑体"/>
              </a:rPr>
              <a:t>杨万扣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754200" y="1557360"/>
            <a:ext cx="83898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黑体"/>
                <a:ea typeface="黑体"/>
              </a:rPr>
              <a:t>专业技术岗 教授 申报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3"/>
          <p:cNvSpPr/>
          <p:nvPr/>
        </p:nvSpPr>
        <p:spPr>
          <a:xfrm>
            <a:off x="826920" y="260280"/>
            <a:ext cx="6913800" cy="459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杨万扣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自动化学院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简     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826920" y="1165320"/>
            <a:ext cx="8137800" cy="4826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1998.09 ~ 2002.07   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华文宋体"/>
                <a:ea typeface="华文宋体"/>
              </a:rPr>
              <a:t>	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南京理工大学</a:t>
            </a:r>
            <a:r>
              <a:rPr b="1" lang="zh-CN" sz="2400" spc="-1" strike="noStrike">
                <a:solidFill>
                  <a:srgbClr val="ff0000"/>
                </a:solidFill>
                <a:latin typeface="华文宋体"/>
                <a:ea typeface="华文宋体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计算机系        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学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2002.09 ~ 2004.07   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华文宋体"/>
                <a:ea typeface="华文宋体"/>
              </a:rPr>
              <a:t>	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南京理工大学</a:t>
            </a:r>
            <a:r>
              <a:rPr b="1" lang="zh-CN" sz="2400" spc="-1" strike="noStrike">
                <a:solidFill>
                  <a:srgbClr val="ff0000"/>
                </a:solidFill>
                <a:latin typeface="华文宋体"/>
                <a:ea typeface="华文宋体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计算机学院    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硕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2005.09 ~ 2009.04   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　</a:t>
            </a: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	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南京理工大学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计算机学院    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博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华文宋体"/>
                <a:ea typeface="华文宋体"/>
              </a:rPr>
              <a:t>                                    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国家重点学科</a:t>
            </a: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: 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模式识别与智能系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2004.08 ~ 2005.08   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　</a:t>
            </a: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北京京天威科技有限公司     工程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2008.10 ~ 2009.06   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　</a:t>
            </a: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	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香港理工大学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计算机系       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研究助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2009.07 ~ 2011.09   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　</a:t>
            </a: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东南大学          自动化学院   博士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2011.09 ~ 2015.04   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　</a:t>
            </a: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东南大学          自动化学院   讲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2015.01 ~ 2015.12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　</a:t>
            </a: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	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悉尼科技大学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信息学院       访问学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2015.04</a:t>
            </a:r>
            <a:r>
              <a:rPr b="1" lang="en-US" sz="2400" spc="-1" strike="noStrike">
                <a:solidFill>
                  <a:srgbClr val="ff0000"/>
                </a:solidFill>
                <a:latin typeface="华文宋体"/>
                <a:ea typeface="华文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~ 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现在</a:t>
            </a: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　</a:t>
            </a: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东南大学          自动化学院   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副研究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2017.02</a:t>
            </a:r>
            <a:r>
              <a:rPr b="1" lang="en-US" sz="2400" spc="-1" strike="noStrike">
                <a:solidFill>
                  <a:srgbClr val="ff0000"/>
                </a:solidFill>
                <a:latin typeface="华文宋体"/>
                <a:ea typeface="华文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~ 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现在</a:t>
            </a: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　</a:t>
            </a: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东南大学          自动化学院   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博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3"/>
          <p:cNvSpPr/>
          <p:nvPr/>
        </p:nvSpPr>
        <p:spPr>
          <a:xfrm>
            <a:off x="826920" y="260280"/>
            <a:ext cx="7705800" cy="459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杨万扣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自动化学院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任现职以来教学工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826920" y="1190520"/>
            <a:ext cx="8137800" cy="5262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1.  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授课</a:t>
            </a:r>
            <a:r>
              <a:rPr b="1" lang="en-US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568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学时</a:t>
            </a: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,  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平均</a:t>
            </a:r>
            <a:r>
              <a:rPr b="1" lang="en-US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117.3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学时</a:t>
            </a:r>
            <a:r>
              <a:rPr b="1" lang="en-US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/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2016 ~ 2020   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本科生     </a:t>
            </a: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《</a:t>
            </a: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C++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程序设计</a:t>
            </a: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》</a:t>
            </a:r>
            <a:r>
              <a:rPr b="1" lang="en-US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48×5=2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2016 ~ 2020    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本科生     </a:t>
            </a: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《</a:t>
            </a: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C++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程序设计课程设计（研讨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课）</a:t>
            </a: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》</a:t>
            </a:r>
            <a:r>
              <a:rPr b="1" lang="en-US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40×5=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2016 ~ 2020   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研究生     </a:t>
            </a: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《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模式识别原理</a:t>
            </a: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》</a:t>
            </a:r>
            <a:r>
              <a:rPr b="1" lang="en-US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54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*</a:t>
            </a:r>
            <a:r>
              <a:rPr b="1" lang="en-US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4+48=26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2.  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校级授课竞赛提名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3.  2017 ~ 2021    080171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班主任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平均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绩点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四个班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第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4.  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指导本科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毕业设计</a:t>
            </a:r>
            <a:r>
              <a:rPr b="1" lang="en-US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15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人</a:t>
            </a: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,  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平均</a:t>
            </a:r>
            <a:r>
              <a:rPr b="1" lang="en-US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2.5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人</a:t>
            </a:r>
            <a:r>
              <a:rPr b="1" lang="en-US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/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5.  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发表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教改论文</a:t>
            </a:r>
            <a:r>
              <a:rPr b="1" lang="en-US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篇</a:t>
            </a: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主持完成校级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教改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项目</a:t>
            </a:r>
            <a:r>
              <a:rPr b="1" lang="en-US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6.  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独立指导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硕士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毕业</a:t>
            </a:r>
            <a:r>
              <a:rPr b="1" lang="en-US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人</a:t>
            </a: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, 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在读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硕士生</a:t>
            </a:r>
            <a:r>
              <a:rPr b="1" lang="en-US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9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7.  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协助指导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博士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毕业</a:t>
            </a:r>
            <a:r>
              <a:rPr b="1" lang="en-US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7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人</a:t>
            </a: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, 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在读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博士生</a:t>
            </a:r>
            <a:r>
              <a:rPr b="1" lang="en-US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5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3"/>
          <p:cNvSpPr/>
          <p:nvPr/>
        </p:nvSpPr>
        <p:spPr>
          <a:xfrm>
            <a:off x="826920" y="260280"/>
            <a:ext cx="7993080" cy="459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杨万扣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自动化学院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任现职以来科研工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826920" y="1197000"/>
            <a:ext cx="8137800" cy="5398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1. </a:t>
            </a:r>
            <a:r>
              <a:rPr b="1" lang="en-US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2018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年装发领域基金</a:t>
            </a: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, 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项目编号</a:t>
            </a: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: 61404150203, </a:t>
            </a:r>
            <a:r>
              <a:rPr b="1" lang="en-US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2018.01-2019.12 </a:t>
            </a: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, 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光学制导信息处理新技术</a:t>
            </a: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,  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经费</a:t>
            </a:r>
            <a:r>
              <a:rPr b="1" lang="en-US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50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万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（结题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2. </a:t>
            </a:r>
            <a:r>
              <a:rPr b="1" lang="en-US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2017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年国基面上项目</a:t>
            </a: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, 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项目编号</a:t>
            </a: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: 61773117, </a:t>
            </a:r>
            <a:r>
              <a:rPr b="1" lang="en-US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2018.01-2021.12</a:t>
            </a: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面向静态图像行为识别的混合特征学习方法研究</a:t>
            </a: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, 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经费</a:t>
            </a:r>
            <a:r>
              <a:rPr b="1" lang="en-US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64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3. </a:t>
            </a:r>
            <a:r>
              <a:rPr b="1" lang="en-US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2014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年国基面上项目</a:t>
            </a: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, 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项目编号</a:t>
            </a: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: 61473086, </a:t>
            </a:r>
            <a:r>
              <a:rPr b="1" lang="en-US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2015.01-2018.12</a:t>
            </a: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基于可变拓扑模型的多姿态行人检测研究</a:t>
            </a: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, 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经费</a:t>
            </a:r>
            <a:r>
              <a:rPr b="1" lang="en-US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84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万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（结题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4. </a:t>
            </a:r>
            <a:r>
              <a:rPr b="1" lang="en-US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2019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年中船</a:t>
            </a:r>
            <a:r>
              <a:rPr b="1" lang="en-US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716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所横向</a:t>
            </a: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便携式机器人</a:t>
            </a: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xxx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，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经费</a:t>
            </a:r>
            <a:r>
              <a:rPr b="1" lang="en-US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96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万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（结题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5. </a:t>
            </a:r>
            <a:r>
              <a:rPr b="1" lang="en-US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2020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年中船</a:t>
            </a:r>
            <a:r>
              <a:rPr b="1" lang="en-US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716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所横向</a:t>
            </a:r>
            <a:r>
              <a:rPr b="1" lang="en-US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, 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视觉目标检测</a:t>
            </a: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xx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，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经费</a:t>
            </a:r>
            <a:r>
              <a:rPr b="1" lang="en-US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48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万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（结题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6. </a:t>
            </a:r>
            <a:r>
              <a:rPr b="1" lang="en-US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2020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年航天二院横向</a:t>
            </a:r>
            <a:r>
              <a:rPr b="1" lang="en-US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, 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目标识别</a:t>
            </a: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xxx, 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经费</a:t>
            </a:r>
            <a:r>
              <a:rPr b="1" lang="en-US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18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万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（结题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5. 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申请发明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专利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受理</a:t>
            </a:r>
            <a:r>
              <a:rPr b="1" lang="en-US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7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6. 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发表</a:t>
            </a:r>
            <a:r>
              <a:rPr b="1" lang="en-US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SCI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源期刊论文</a:t>
            </a: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9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7. 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担任国际</a:t>
            </a:r>
            <a:r>
              <a:rPr b="1" lang="en-US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SCI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源期刊</a:t>
            </a: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《</a:t>
            </a: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Neural Processing Letters</a:t>
            </a: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》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编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3"/>
          <p:cNvSpPr/>
          <p:nvPr/>
        </p:nvSpPr>
        <p:spPr>
          <a:xfrm>
            <a:off x="826920" y="260280"/>
            <a:ext cx="7993080" cy="459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杨万扣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自动化学院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其他亮点工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矩形 1"/>
          <p:cNvSpPr/>
          <p:nvPr/>
        </p:nvSpPr>
        <p:spPr>
          <a:xfrm>
            <a:off x="826920" y="853920"/>
            <a:ext cx="7993080" cy="36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098"/>
              </a:lnSpc>
              <a:spcBef>
                <a:spcPts val="901"/>
              </a:spcBef>
              <a:tabLst>
                <a:tab algn="l" pos="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1. 2020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年春节 研发</a:t>
            </a: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《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智能测温系统</a:t>
            </a: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》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直接用于抗疫一线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得到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中共江苏省委统战部表扬</a:t>
            </a:r>
            <a:r>
              <a:rPr b="1" lang="en-US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   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中国江苏网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等正面报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098"/>
              </a:lnSpc>
              <a:spcBef>
                <a:spcPts val="901"/>
              </a:spcBef>
              <a:tabLst>
                <a:tab algn="l" pos="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2. 2020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年   获得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华为奖教金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098"/>
              </a:lnSpc>
              <a:spcBef>
                <a:spcPts val="901"/>
              </a:spcBef>
              <a:tabLst>
                <a:tab algn="l" pos="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3. 2020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年 “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海上争锋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”中国智能船艇挑战赛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二等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098"/>
              </a:lnSpc>
              <a:spcBef>
                <a:spcPts val="901"/>
              </a:spcBef>
              <a:tabLst>
                <a:tab algn="l" pos="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4. 2015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年    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教育部自然科学二等奖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排名第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098"/>
              </a:lnSpc>
              <a:spcBef>
                <a:spcPts val="901"/>
              </a:spcBef>
              <a:tabLst>
                <a:tab algn="l" pos="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5. 2017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年    </a:t>
            </a:r>
            <a:r>
              <a:rPr b="1" lang="en-US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PR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发表</a:t>
            </a:r>
            <a:r>
              <a:rPr b="1" lang="en-US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篇 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选为</a:t>
            </a:r>
            <a:r>
              <a:rPr b="1" lang="en-US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ESI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高被引论文      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第一作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098"/>
              </a:lnSpc>
              <a:spcBef>
                <a:spcPts val="901"/>
              </a:spcBef>
              <a:tabLst>
                <a:tab algn="l" pos="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6. 2017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年</a:t>
            </a: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江苏省教学成果一等奖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          排名第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098"/>
              </a:lnSpc>
              <a:spcBef>
                <a:spcPts val="901"/>
              </a:spcBef>
              <a:tabLst>
                <a:tab algn="l" pos="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7. 2018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年    江苏省教育厅教学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一等奖 </a:t>
            </a: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     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排名第四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098"/>
              </a:lnSpc>
              <a:spcBef>
                <a:spcPts val="901"/>
              </a:spcBef>
              <a:tabLst>
                <a:tab algn="l" pos="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8.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协助指导博士生</a:t>
            </a:r>
            <a:r>
              <a:rPr b="1" lang="en-US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人获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校优秀博士学位论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098"/>
              </a:lnSpc>
              <a:spcBef>
                <a:spcPts val="901"/>
              </a:spcBef>
              <a:tabLst>
                <a:tab algn="l" pos="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9. </a:t>
            </a:r>
            <a:r>
              <a:rPr b="1" lang="zh-CN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协助指导博士生发表</a:t>
            </a:r>
            <a:r>
              <a:rPr b="1" lang="zh-CN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学院第一篇</a:t>
            </a:r>
            <a:r>
              <a:rPr b="1" lang="en-US" sz="2400" spc="-1" strike="noStrike">
                <a:solidFill>
                  <a:srgbClr val="ffff00"/>
                </a:solidFill>
                <a:latin typeface="华文宋体"/>
                <a:ea typeface="华文宋体"/>
              </a:rPr>
              <a:t>TPAMI/TIP/PR/CVP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689040" y="4437000"/>
            <a:ext cx="1993680" cy="1297080"/>
          </a:xfrm>
          <a:prstGeom prst="rect">
            <a:avLst/>
          </a:prstGeom>
          <a:ln w="0">
            <a:noFill/>
          </a:ln>
        </p:spPr>
      </p:pic>
      <p:pic>
        <p:nvPicPr>
          <p:cNvPr id="192" name="图片 8" descr=""/>
          <p:cNvPicPr/>
          <p:nvPr/>
        </p:nvPicPr>
        <p:blipFill>
          <a:blip r:embed="rId2"/>
          <a:srcRect l="0" t="6582" r="3186" b="5543"/>
          <a:stretch/>
        </p:blipFill>
        <p:spPr>
          <a:xfrm>
            <a:off x="6886440" y="4437000"/>
            <a:ext cx="2257560" cy="1297080"/>
          </a:xfrm>
          <a:prstGeom prst="rect">
            <a:avLst/>
          </a:prstGeom>
          <a:ln w="0">
            <a:noFill/>
          </a:ln>
        </p:spPr>
      </p:pic>
      <p:pic>
        <p:nvPicPr>
          <p:cNvPr id="193" name="图片 9" descr=""/>
          <p:cNvPicPr/>
          <p:nvPr/>
        </p:nvPicPr>
        <p:blipFill>
          <a:blip r:embed="rId3"/>
          <a:stretch/>
        </p:blipFill>
        <p:spPr>
          <a:xfrm>
            <a:off x="2678040" y="4437000"/>
            <a:ext cx="2146320" cy="129708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10" descr=""/>
          <p:cNvPicPr/>
          <p:nvPr/>
        </p:nvPicPr>
        <p:blipFill>
          <a:blip r:embed="rId4"/>
          <a:srcRect l="0" t="7453" r="0" b="0"/>
          <a:stretch/>
        </p:blipFill>
        <p:spPr>
          <a:xfrm>
            <a:off x="4824360" y="4437000"/>
            <a:ext cx="2089080" cy="129708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11" descr=""/>
          <p:cNvPicPr/>
          <p:nvPr/>
        </p:nvPicPr>
        <p:blipFill>
          <a:blip r:embed="rId5"/>
          <a:srcRect l="4867" t="5535" r="7445" b="6051"/>
          <a:stretch/>
        </p:blipFill>
        <p:spPr>
          <a:xfrm>
            <a:off x="6913440" y="5734080"/>
            <a:ext cx="2230560" cy="112392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12" descr=""/>
          <p:cNvPicPr/>
          <p:nvPr/>
        </p:nvPicPr>
        <p:blipFill>
          <a:blip r:embed="rId6"/>
          <a:stretch/>
        </p:blipFill>
        <p:spPr>
          <a:xfrm>
            <a:off x="689040" y="5734080"/>
            <a:ext cx="1989000" cy="112392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13" descr=""/>
          <p:cNvPicPr/>
          <p:nvPr/>
        </p:nvPicPr>
        <p:blipFill>
          <a:blip r:embed="rId7"/>
          <a:srcRect l="3745" t="7022" r="4142" b="0"/>
          <a:stretch/>
        </p:blipFill>
        <p:spPr>
          <a:xfrm>
            <a:off x="4826160" y="5734080"/>
            <a:ext cx="2087280" cy="1150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E:\PRLab\比赛\2020海航争锋\获奖证书2.jpg"/>
          <p:cNvPicPr/>
          <p:nvPr/>
        </p:nvPicPr>
        <p:blipFill>
          <a:blip r:embed="rId8"/>
          <a:stretch/>
        </p:blipFill>
        <p:spPr>
          <a:xfrm>
            <a:off x="2678040" y="5734080"/>
            <a:ext cx="21463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00:09:42Z</dcterms:created>
  <dc:creator>nsfc</dc:creator>
  <dc:description/>
  <dc:language>en-US</dc:language>
  <cp:lastModifiedBy>陈晓华</cp:lastModifiedBy>
  <dcterms:modified xsi:type="dcterms:W3CDTF">2021-06-29T01:48:14Z</dcterms:modified>
  <cp:revision>129</cp:revision>
  <dc:subject/>
  <dc:title>北京工业大学</dc:title>
</cp:coreProperties>
</file>